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49AB-17A8-4285-B45C-E40752FB00EA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1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43828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rt translator (typically) has the potential to ex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2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xporting application’s native data structures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may not be fully populat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4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3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43828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mport translator (typically) has the potential to im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a Data Exchang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general introduction to the (CIS/2)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3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4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0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1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8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4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74320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anslator will (typically) employ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may be less critical than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4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7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5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38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1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ical Corrige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7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0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0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3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ndrew Crowley</cp:lastModifiedBy>
  <cp:lastPrinted>2000-03-29T15:55:34Z</cp:lastPrinted>
  <dcterms:modified xsi:type="dcterms:W3CDTF">2000-04-27T13:14:26Z</dcterms:modified>
  <cp:revision>30</cp:revision>
  <dc:subject/>
  <dc:title>AISC CIS/2  Workshop #I</dc:title>
</cp:coreProperties>
</file>